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4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1120" y="1828800"/>
            <a:ext cx="109220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9433e"/>
                </a:solidFill>
                <a:latin typeface="Gill Sans Light"/>
              </a:rPr>
              <a:t>Click to edit the title text format</a:t>
            </a:r>
            <a:endParaRPr b="0" lang="en-US" sz="64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41120" y="5245200"/>
            <a:ext cx="1092204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0000"/>
          </a:bodyPr>
          <a:p>
            <a:pPr indent="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Click to edit the outline text format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1" algn="ctr">
              <a:spcBef>
                <a:spcPts val="1199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econd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2" algn="ctr">
              <a:spcBef>
                <a:spcPts val="1199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Third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3" algn="ctr">
              <a:spcBef>
                <a:spcPts val="1199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Four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4" algn="ctr">
              <a:spcBef>
                <a:spcPts val="1199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Fif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5" algn="ctr">
              <a:spcBef>
                <a:spcPts val="1199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ix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6" algn="ctr">
              <a:spcBef>
                <a:spcPts val="1199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even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9433e"/>
                </a:solidFill>
                <a:latin typeface="Gill Sans Light"/>
              </a:rPr>
              <a:t>Click to edit the title text format</a:t>
            </a: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1041480" y="2768400"/>
            <a:ext cx="49528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8000"/>
          </a:bodyPr>
          <a:p>
            <a:pPr marL="502920" indent="-50292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Click to edit the outline text format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1" marL="849240" indent="-50256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econd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2" marL="1240560" indent="-50292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Third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3" marL="1631520" indent="-50292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Four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4" marL="2022480" indent="-50256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Fif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5" marL="2022480" indent="-50256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ix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6" marL="2022480" indent="-50256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even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3"/>
          <a:stretch/>
        </p:blipFill>
        <p:spPr>
          <a:xfrm>
            <a:off x="1003320" y="2222640"/>
            <a:ext cx="10998360" cy="6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9433e"/>
                </a:solidFill>
                <a:latin typeface="Gill Sans Light"/>
              </a:rPr>
              <a:t>Click to edit the title text format</a:t>
            </a: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1680" indent="-57168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Click to edit the outline text format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1" marL="965160" indent="-57132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econd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2" marL="1409760" indent="-57168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Third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3" marL="1854360" indent="-57168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Four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4" marL="2298600" indent="-57132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Fif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5" marL="2298600" indent="-57132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ix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6" marL="2298600" indent="-57132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even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3"/>
          <a:stretch/>
        </p:blipFill>
        <p:spPr>
          <a:xfrm>
            <a:off x="1003320" y="2222640"/>
            <a:ext cx="10998360" cy="6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" descr=""/>
          <p:cNvPicPr/>
          <p:nvPr/>
        </p:nvPicPr>
        <p:blipFill>
          <a:blip r:embed="rId3"/>
          <a:stretch/>
        </p:blipFill>
        <p:spPr>
          <a:xfrm>
            <a:off x="1003320" y="8064360"/>
            <a:ext cx="10998360" cy="63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" descr=""/>
          <p:cNvPicPr/>
          <p:nvPr/>
        </p:nvPicPr>
        <p:blipFill>
          <a:blip r:embed="rId3"/>
          <a:stretch/>
        </p:blipFill>
        <p:spPr>
          <a:xfrm>
            <a:off x="1003320" y="8064360"/>
            <a:ext cx="10998360" cy="63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9433e"/>
                </a:solidFill>
                <a:latin typeface="Gill Sans Light"/>
              </a:rPr>
              <a:t>Click to edit the title text format</a:t>
            </a: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554400" indent="-554400">
              <a:spcBef>
                <a:spcPts val="5199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Click to edit the outline text format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1" marL="985320" indent="-554040">
              <a:spcBef>
                <a:spcPts val="5199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econd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2" marL="1416600" indent="-554400">
              <a:spcBef>
                <a:spcPts val="5199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Third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3" marL="1847880" indent="-554400">
              <a:spcBef>
                <a:spcPts val="5199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Four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4" marL="2278800" indent="-554040">
              <a:spcBef>
                <a:spcPts val="5199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Fif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5" marL="2278800" indent="-554040">
              <a:spcBef>
                <a:spcPts val="7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ix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6" marL="2278800" indent="-554040">
              <a:spcBef>
                <a:spcPts val="7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even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9433e"/>
                </a:solidFill>
                <a:latin typeface="Gill Sans Light"/>
              </a:rPr>
              <a:t>Click to edit the title text format</a:t>
            </a: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1003320" y="2222640"/>
            <a:ext cx="10998360" cy="6336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041480" y="2768400"/>
            <a:ext cx="49528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8000"/>
          </a:bodyPr>
          <a:p>
            <a:pPr marL="502920" indent="-50292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Click to edit the outline text format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1" marL="849240" indent="-50256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econd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2" marL="1240560" indent="-50292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Third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3" marL="1631520" indent="-50292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Four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4" marL="2022480" indent="-50256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Fif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5" marL="2022480" indent="-50256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ix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6" marL="2022480" indent="-50256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even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9433e"/>
                </a:solidFill>
                <a:latin typeface="Gill Sans Light"/>
              </a:rPr>
              <a:t>Click to edit the title text format</a:t>
            </a: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009920" y="2768400"/>
            <a:ext cx="49532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8000"/>
          </a:bodyPr>
          <a:p>
            <a:pPr marL="502920" indent="-50292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Click to edit the outline text format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1" marL="849240" indent="-50256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econd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2" marL="1240560" indent="-50292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Third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3" marL="1631520" indent="-50292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Four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4" marL="2022480" indent="-50256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Fif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5" marL="2022480" indent="-50256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ix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6" marL="2022480" indent="-50256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even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1003320" y="2222640"/>
            <a:ext cx="10998360" cy="6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41120" y="6959520"/>
            <a:ext cx="10922040" cy="101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9433e"/>
                </a:solidFill>
                <a:latin typeface="Gill Sans Light"/>
              </a:rPr>
              <a:t>Click to edit the title text format</a:t>
            </a: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041120" y="8292960"/>
            <a:ext cx="10922040" cy="990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9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Click to edit the outline text format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1" algn="ctr">
              <a:buClr>
                <a:srgbClr val="49433e"/>
              </a:buClr>
              <a:buFont typeface="Bradley Hand ITC TT-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econd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2" algn="ctr">
              <a:buClr>
                <a:srgbClr val="49433e"/>
              </a:buClr>
              <a:buFont typeface="Bradley Hand ITC TT-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Third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3" algn="ctr">
              <a:buClr>
                <a:srgbClr val="49433e"/>
              </a:buClr>
              <a:buFont typeface="Bradley Hand ITC TT-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Four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4" algn="ctr">
              <a:buClr>
                <a:srgbClr val="49433e"/>
              </a:buClr>
              <a:buFont typeface="Bradley Hand ITC TT-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Fif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5" algn="ctr">
              <a:buClr>
                <a:srgbClr val="49433e"/>
              </a:buClr>
              <a:buFont typeface="Bradley Hand ITC TT-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ix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6" algn="ctr">
              <a:buClr>
                <a:srgbClr val="49433e"/>
              </a:buClr>
              <a:buFont typeface="Bradley Hand ITC TT-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even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1003320" y="8115480"/>
            <a:ext cx="10998360" cy="6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9433e"/>
                </a:solidFill>
                <a:latin typeface="Gill Sans Light"/>
              </a:rPr>
              <a:t>Click to edit the title text format</a:t>
            </a: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1003320" y="2222640"/>
            <a:ext cx="10998360" cy="6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41120" y="2971800"/>
            <a:ext cx="109220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9433e"/>
                </a:solidFill>
                <a:latin typeface="Gill Sans Light"/>
              </a:rPr>
              <a:t>Click to edit the title text format</a:t>
            </a:r>
            <a:endParaRPr b="0" lang="en-US" sz="6400" spc="-1" strike="noStrike">
              <a:solidFill>
                <a:srgbClr val="49433e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9433e"/>
                </a:solidFill>
                <a:latin typeface="Gill Sans Light"/>
              </a:rPr>
              <a:t>Click to edit the title text format</a:t>
            </a: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Click to edit the outline text format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1" marL="965160" indent="-57132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econd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2" marL="1409760" indent="-57168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Third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3" marL="1854360" indent="-57168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Four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4" marL="2298600" indent="-57132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Fif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5" marL="2298600" indent="-57132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ix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6" marL="2298600" indent="-57132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even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>
            <a:off x="1003320" y="2222640"/>
            <a:ext cx="10998360" cy="6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1041120" y="1828440"/>
            <a:ext cx="10922040" cy="6095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491400" indent="-491400">
              <a:spcBef>
                <a:spcPts val="5199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Click to edit the outline text format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1" marL="829800" indent="-491040">
              <a:spcBef>
                <a:spcPts val="5199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econd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2" marL="1212120" indent="-491400">
              <a:spcBef>
                <a:spcPts val="5199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Third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3" marL="1594440" indent="-491400">
              <a:spcBef>
                <a:spcPts val="5199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Four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4" marL="1976760" indent="-491040">
              <a:spcBef>
                <a:spcPts val="5199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Fif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5" marL="1976760" indent="-491040">
              <a:spcBef>
                <a:spcPts val="5199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ix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6" marL="1976760" indent="-491040">
              <a:spcBef>
                <a:spcPts val="5199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even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search.yahoo.com/search/images/view?back=http://images.search.yahoo.com/search/images?p=bird+in+winter&amp;ei=UTF-8&amp;fr=yfp-t-501&amp;x=wrt&amp;js=1&amp;ni=20&amp;w=500&amp;h=446&amp;imgurl=static.flickr.com/36/104640519_84ce73840b_m.jpg&amp;rurl=http://www.flickr.com/photos/puffinart/104640519/&amp;size=115.4kB&amp;name=104640519_84ce73840b.jpg&amp;p=bird+in+winter&amp;type=jpeg&amp;no=2&amp;tt=73,311&amp;oid=94e08e2a3e74fc66&amp;fusr=PuffinArt&amp;tit=Winter+Bird+in+my+Backyard+II&amp;hurl=http://www.flickr.com/photos/puffinart/&amp;ei=UTF-8&amp;src=p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search.yahoo.com/search/images/view?back=http://images.search.yahoo.com/search/images?p=rake&amp;ei=UTF-8&amp;fr=yfp-t-501&amp;x=wrt&amp;js=1&amp;ni=20&amp;w=342&amp;h=275&amp;imgurl=www.rockingham.k12.va.us/sound_sorting/initial_consonants/r/images/rake.jpg&amp;rurl=http://www.rockingham.k12.va.us/sound_sorting/initial_consonants/r/pages/rake.htm&amp;size=18.7kB&amp;name=rake.jpg&amp;p=rake&amp;type=jpeg&amp;no=1&amp;tt=131,036&amp;oid=8b279b312819451e&amp;ei=UTF-8" TargetMode="External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015920" y="596880"/>
            <a:ext cx="10972800" cy="7137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49433e"/>
                </a:solidFill>
                <a:latin typeface="Gill Sans Light"/>
              </a:rPr>
              <a:t>AP Lit Exam:</a:t>
            </a:r>
            <a:br>
              <a:rPr sz="9600"/>
            </a:br>
            <a:r>
              <a:rPr b="0" lang="en-US" sz="9600" spc="-1" strike="noStrike">
                <a:solidFill>
                  <a:srgbClr val="49433e"/>
                </a:solidFill>
                <a:latin typeface="Gill Sans Light"/>
              </a:rPr>
              <a:t>Multiple choice </a:t>
            </a:r>
            <a:br>
              <a:rPr sz="9600"/>
            </a:br>
            <a:r>
              <a:rPr b="0" lang="en-US" sz="9600" spc="-1" strike="noStrike">
                <a:solidFill>
                  <a:srgbClr val="49433e"/>
                </a:solidFill>
                <a:latin typeface="Gill Sans Light"/>
              </a:rPr>
              <a:t>tips and strategies</a:t>
            </a:r>
            <a:endParaRPr b="0" lang="en-US" sz="9600" spc="-1" strike="noStrike">
              <a:solidFill>
                <a:srgbClr val="49433e"/>
              </a:solidFill>
              <a:latin typeface="Gill Sans Light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9433e"/>
              </a:solidFill>
              <a:latin typeface="Gill Sans Light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9433e"/>
              </a:solidFill>
              <a:latin typeface="Gill Sans Ligh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469800" y="698400"/>
            <a:ext cx="6934320" cy="84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buClr>
                <a:srgbClr val="eaeaea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10101"/>
                </a:solidFill>
                <a:latin typeface="Papyrus"/>
                <a:ea typeface="Papyrus"/>
              </a:rPr>
              <a:t>Alliteration</a:t>
            </a:r>
            <a:endParaRPr b="0" lang="en-US" sz="4800" spc="-1" strike="noStrike">
              <a:solidFill>
                <a:srgbClr val="49433e"/>
              </a:solidFill>
              <a:latin typeface="Bradley Hand ITC TT-Bold"/>
            </a:endParaRPr>
          </a:p>
          <a:p>
            <a:pPr marL="39600">
              <a:lnSpc>
                <a:spcPct val="100000"/>
              </a:lnSpc>
              <a:buClr>
                <a:srgbClr val="eaeaea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10101"/>
                </a:solidFill>
                <a:latin typeface="Papyrus"/>
                <a:ea typeface="Papyrus"/>
              </a:rPr>
              <a:t>Simile</a:t>
            </a:r>
            <a:endParaRPr b="0" lang="en-US" sz="4800" spc="-1" strike="noStrike">
              <a:solidFill>
                <a:srgbClr val="49433e"/>
              </a:solidFill>
              <a:latin typeface="Bradley Hand ITC TT-Bold"/>
            </a:endParaRPr>
          </a:p>
          <a:p>
            <a:pPr marL="39600">
              <a:lnSpc>
                <a:spcPct val="100000"/>
              </a:lnSpc>
              <a:buClr>
                <a:srgbClr val="eaeaea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10101"/>
                </a:solidFill>
                <a:latin typeface="Papyrus"/>
                <a:ea typeface="Papyrus"/>
              </a:rPr>
              <a:t>Analogy</a:t>
            </a:r>
            <a:endParaRPr b="0" lang="en-US" sz="4800" spc="-1" strike="noStrike">
              <a:solidFill>
                <a:srgbClr val="49433e"/>
              </a:solidFill>
              <a:latin typeface="Bradley Hand ITC TT-Bold"/>
            </a:endParaRPr>
          </a:p>
          <a:p>
            <a:pPr marL="39600">
              <a:lnSpc>
                <a:spcPct val="100000"/>
              </a:lnSpc>
              <a:buClr>
                <a:srgbClr val="eaeaea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10101"/>
                </a:solidFill>
                <a:latin typeface="Papyrus"/>
                <a:ea typeface="Papyrus"/>
              </a:rPr>
              <a:t>Paradox</a:t>
            </a:r>
            <a:endParaRPr b="0" lang="en-US" sz="4800" spc="-1" strike="noStrike">
              <a:solidFill>
                <a:srgbClr val="49433e"/>
              </a:solidFill>
              <a:latin typeface="Bradley Hand ITC TT-Bold"/>
            </a:endParaRPr>
          </a:p>
          <a:p>
            <a:pPr marL="39600">
              <a:lnSpc>
                <a:spcPct val="100000"/>
              </a:lnSpc>
              <a:buClr>
                <a:srgbClr val="eaeaea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10101"/>
                </a:solidFill>
                <a:latin typeface="Papyrus"/>
                <a:ea typeface="Papyrus"/>
              </a:rPr>
              <a:t>Parallelism</a:t>
            </a:r>
            <a:endParaRPr b="0" lang="en-US" sz="4800" spc="-1" strike="noStrike">
              <a:solidFill>
                <a:srgbClr val="49433e"/>
              </a:solidFill>
              <a:latin typeface="Bradley Hand ITC TT-Bold"/>
            </a:endParaRPr>
          </a:p>
          <a:p>
            <a:pPr marL="39600">
              <a:lnSpc>
                <a:spcPct val="100000"/>
              </a:lnSpc>
              <a:buClr>
                <a:srgbClr val="eaeaea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10101"/>
                </a:solidFill>
                <a:latin typeface="Papyrus"/>
                <a:ea typeface="Papyrus"/>
              </a:rPr>
              <a:t>Allusion</a:t>
            </a:r>
            <a:endParaRPr b="0" lang="en-US" sz="4800" spc="-1" strike="noStrike">
              <a:solidFill>
                <a:srgbClr val="49433e"/>
              </a:solidFill>
              <a:latin typeface="Bradley Hand ITC TT-Bold"/>
            </a:endParaRPr>
          </a:p>
          <a:p>
            <a:pPr marL="39600">
              <a:lnSpc>
                <a:spcPct val="100000"/>
              </a:lnSpc>
              <a:buClr>
                <a:srgbClr val="eaeaea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10101"/>
                </a:solidFill>
                <a:latin typeface="Papyrus"/>
                <a:ea typeface="Papyrus"/>
              </a:rPr>
              <a:t>Character motivation</a:t>
            </a:r>
            <a:endParaRPr b="0" lang="en-US" sz="4400" spc="-1" strike="noStrike">
              <a:solidFill>
                <a:srgbClr val="49433e"/>
              </a:solidFill>
              <a:latin typeface="Bradley Hand ITC TT-Bold"/>
            </a:endParaRPr>
          </a:p>
          <a:p>
            <a:pPr marL="39600">
              <a:lnSpc>
                <a:spcPct val="100000"/>
              </a:lnSpc>
              <a:buClr>
                <a:srgbClr val="eaeaea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10101"/>
                </a:solidFill>
                <a:latin typeface="Papyrus"/>
                <a:ea typeface="Papyrus"/>
              </a:rPr>
              <a:t>Pronoun-antecedent </a:t>
            </a:r>
            <a:endParaRPr b="0" lang="en-US" sz="4800" spc="-1" strike="noStrike">
              <a:solidFill>
                <a:srgbClr val="49433e"/>
              </a:solidFill>
              <a:latin typeface="Bradley Hand ITC TT-Bold"/>
            </a:endParaRPr>
          </a:p>
          <a:p>
            <a:pPr marL="39600">
              <a:lnSpc>
                <a:spcPct val="100000"/>
              </a:lnSpc>
              <a:buClr>
                <a:srgbClr val="eaeaea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10101"/>
                </a:solidFill>
                <a:latin typeface="Papyrus"/>
                <a:ea typeface="Papyrus"/>
              </a:rPr>
              <a:t>Dynamic characterization</a:t>
            </a:r>
            <a:endParaRPr b="0" lang="en-US" sz="44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508" name=""/>
          <p:cNvSpPr/>
          <p:nvPr/>
        </p:nvSpPr>
        <p:spPr>
          <a:xfrm>
            <a:off x="7772400" y="336600"/>
            <a:ext cx="7365960" cy="91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lnSpc>
                <a:spcPct val="100000"/>
              </a:lnSpc>
              <a:buClr>
                <a:srgbClr val="eaeaea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10101"/>
                </a:solidFill>
                <a:latin typeface="Papyrus"/>
                <a:ea typeface="Papyrus"/>
              </a:rPr>
              <a:t>Oxymoron</a:t>
            </a:r>
            <a:endParaRPr b="0" lang="en-US" sz="4600" spc="-1" strike="noStrike">
              <a:solidFill>
                <a:srgbClr val="49433e"/>
              </a:solidFill>
              <a:latin typeface="Bradley Hand ITC TT-Bold"/>
            </a:endParaRPr>
          </a:p>
          <a:p>
            <a:pPr marL="39600">
              <a:lnSpc>
                <a:spcPct val="100000"/>
              </a:lnSpc>
              <a:buClr>
                <a:srgbClr val="eaeaea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10101"/>
                </a:solidFill>
                <a:latin typeface="Papyrus"/>
                <a:ea typeface="Papyrus"/>
              </a:rPr>
              <a:t>Enumeration</a:t>
            </a:r>
            <a:endParaRPr b="0" lang="en-US" sz="4600" spc="-1" strike="noStrike">
              <a:solidFill>
                <a:srgbClr val="49433e"/>
              </a:solidFill>
              <a:latin typeface="Bradley Hand ITC TT-Bold"/>
            </a:endParaRPr>
          </a:p>
          <a:p>
            <a:pPr marL="39600">
              <a:lnSpc>
                <a:spcPct val="100000"/>
              </a:lnSpc>
              <a:buClr>
                <a:srgbClr val="eaeaea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10101"/>
                </a:solidFill>
                <a:latin typeface="Papyrus"/>
                <a:ea typeface="Papyrus"/>
              </a:rPr>
              <a:t>Negation</a:t>
            </a:r>
            <a:endParaRPr b="0" lang="en-US" sz="4600" spc="-1" strike="noStrike">
              <a:solidFill>
                <a:srgbClr val="49433e"/>
              </a:solidFill>
              <a:latin typeface="Bradley Hand ITC TT-Bold"/>
            </a:endParaRPr>
          </a:p>
          <a:p>
            <a:pPr marL="39600">
              <a:lnSpc>
                <a:spcPct val="100000"/>
              </a:lnSpc>
              <a:buClr>
                <a:srgbClr val="eaeaea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10101"/>
                </a:solidFill>
                <a:latin typeface="Papyrus"/>
                <a:ea typeface="Papyrus"/>
              </a:rPr>
              <a:t>Setting</a:t>
            </a:r>
            <a:endParaRPr b="0" lang="en-US" sz="4600" spc="-1" strike="noStrike">
              <a:solidFill>
                <a:srgbClr val="49433e"/>
              </a:solidFill>
              <a:latin typeface="Bradley Hand ITC TT-Bold"/>
            </a:endParaRPr>
          </a:p>
          <a:p>
            <a:pPr marL="39600">
              <a:lnSpc>
                <a:spcPct val="100000"/>
              </a:lnSpc>
              <a:buClr>
                <a:srgbClr val="eaeaea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10101"/>
                </a:solidFill>
                <a:latin typeface="Papyrus"/>
                <a:ea typeface="Papyrus"/>
              </a:rPr>
              <a:t>Conceit</a:t>
            </a:r>
            <a:endParaRPr b="0" lang="en-US" sz="4600" spc="-1" strike="noStrike">
              <a:solidFill>
                <a:srgbClr val="49433e"/>
              </a:solidFill>
              <a:latin typeface="Bradley Hand ITC TT-Bold"/>
            </a:endParaRPr>
          </a:p>
          <a:p>
            <a:pPr marL="39600">
              <a:lnSpc>
                <a:spcPct val="100000"/>
              </a:lnSpc>
              <a:buClr>
                <a:srgbClr val="eaeaea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10101"/>
                </a:solidFill>
                <a:latin typeface="Papyrus"/>
                <a:ea typeface="Papyrus"/>
              </a:rPr>
              <a:t>Conflict</a:t>
            </a:r>
            <a:endParaRPr b="0" lang="en-US" sz="4600" spc="-1" strike="noStrike">
              <a:solidFill>
                <a:srgbClr val="49433e"/>
              </a:solidFill>
              <a:latin typeface="Bradley Hand ITC TT-Bold"/>
            </a:endParaRPr>
          </a:p>
          <a:p>
            <a:pPr marL="39600">
              <a:lnSpc>
                <a:spcPct val="100000"/>
              </a:lnSpc>
              <a:buClr>
                <a:srgbClr val="eaeaea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10101"/>
                </a:solidFill>
                <a:latin typeface="Papyrus"/>
                <a:ea typeface="Papyrus"/>
              </a:rPr>
              <a:t>Anecdotes</a:t>
            </a:r>
            <a:endParaRPr b="0" lang="en-US" sz="4600" spc="-1" strike="noStrike">
              <a:solidFill>
                <a:srgbClr val="49433e"/>
              </a:solidFill>
              <a:latin typeface="Bradley Hand ITC TT-Bold"/>
            </a:endParaRPr>
          </a:p>
          <a:p>
            <a:pPr marL="39600">
              <a:lnSpc>
                <a:spcPct val="100000"/>
              </a:lnSpc>
              <a:buClr>
                <a:srgbClr val="eaeaea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10101"/>
                </a:solidFill>
                <a:latin typeface="Papyrus"/>
                <a:ea typeface="Papyrus"/>
              </a:rPr>
              <a:t>Syllogism</a:t>
            </a:r>
            <a:endParaRPr b="0" lang="en-US" sz="4600" spc="-1" strike="noStrike">
              <a:solidFill>
                <a:srgbClr val="49433e"/>
              </a:solidFill>
              <a:latin typeface="Bradley Hand ITC TT-Bold"/>
            </a:endParaRPr>
          </a:p>
          <a:p>
            <a:pPr marL="39600">
              <a:lnSpc>
                <a:spcPct val="100000"/>
              </a:lnSpc>
              <a:buClr>
                <a:srgbClr val="eaeaea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10101"/>
                </a:solidFill>
                <a:latin typeface="Papyrus"/>
                <a:ea typeface="Papyrus"/>
              </a:rPr>
              <a:t>Punctuation </a:t>
            </a:r>
            <a:endParaRPr b="0" lang="en-US" sz="4600" spc="-1" strike="noStrike">
              <a:solidFill>
                <a:srgbClr val="49433e"/>
              </a:solidFill>
              <a:latin typeface="Bradley Hand ITC TT-Bold"/>
            </a:endParaRPr>
          </a:p>
          <a:p>
            <a:pPr marL="39600">
              <a:lnSpc>
                <a:spcPct val="100000"/>
              </a:lnSpc>
              <a:buClr>
                <a:srgbClr val="eaeaea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10101"/>
                </a:solidFill>
                <a:latin typeface="Papyrus"/>
                <a:ea typeface="Papyrus"/>
              </a:rPr>
              <a:t>Syntax</a:t>
            </a:r>
            <a:endParaRPr b="0" lang="en-US" sz="46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1818360" y="3772800"/>
            <a:ext cx="9379440" cy="21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9433e"/>
                </a:solidFill>
                <a:latin typeface="Bradley Hand ITC TT-Bold"/>
                <a:ea typeface="Bradley Hand ITC TT-Bold"/>
              </a:rPr>
              <a:t>POETRY:</a:t>
            </a:r>
            <a:endParaRPr b="0" lang="en-US" sz="7200" spc="-1" strike="noStrike">
              <a:solidFill>
                <a:srgbClr val="49433e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9433e"/>
                </a:solidFill>
                <a:latin typeface="Bradley Hand ITC TT-Bold"/>
                <a:ea typeface="Bradley Hand ITC TT-Bold"/>
              </a:rPr>
              <a:t>TYPES OF QUESTIONS</a:t>
            </a:r>
            <a:endParaRPr b="0" lang="en-US" sz="72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431640" y="2260440"/>
            <a:ext cx="12128760" cy="64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1100"/>
              </a:spcBef>
              <a:buClr>
                <a:srgbClr val="020202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20202"/>
                </a:solidFill>
                <a:latin typeface="Lucida Grande"/>
                <a:ea typeface="Lucida Grande"/>
              </a:rPr>
              <a:t>Dramatic situation:</a:t>
            </a:r>
            <a:endParaRPr b="0" lang="en-US" sz="6400" spc="-1" strike="noStrike">
              <a:solidFill>
                <a:srgbClr val="49433e"/>
              </a:solidFill>
              <a:latin typeface="Bradley Hand ITC TT-Bold"/>
            </a:endParaRPr>
          </a:p>
          <a:p>
            <a:pPr marL="382680" indent="-343080">
              <a:lnSpc>
                <a:spcPct val="100000"/>
              </a:lnSpc>
              <a:spcBef>
                <a:spcPts val="1400"/>
              </a:spcBef>
              <a:buClr>
                <a:srgbClr val="eaeaea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20202"/>
                </a:solidFill>
                <a:latin typeface="Papyrus"/>
                <a:ea typeface="Papyrus"/>
              </a:rPr>
              <a:t>Based on lines 5 – 8, the speaker is most likely…</a:t>
            </a:r>
            <a:endParaRPr b="0" lang="en-US" sz="6400" spc="-1" strike="noStrike">
              <a:solidFill>
                <a:srgbClr val="49433e"/>
              </a:solidFill>
              <a:latin typeface="Bradley Hand ITC TT-Bold"/>
            </a:endParaRPr>
          </a:p>
          <a:p>
            <a:pPr marL="382680" indent="-343080">
              <a:lnSpc>
                <a:spcPct val="100000"/>
              </a:lnSpc>
              <a:spcBef>
                <a:spcPts val="1400"/>
              </a:spcBef>
              <a:buClr>
                <a:srgbClr val="eaeaea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20202"/>
                </a:solidFill>
                <a:latin typeface="Papyrus"/>
                <a:ea typeface="Papyrus"/>
              </a:rPr>
              <a:t>The poem is primarily addressed to…</a:t>
            </a:r>
            <a:endParaRPr b="0" lang="en-US" sz="64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pic>
        <p:nvPicPr>
          <p:cNvPr id="511" name="" descr=""/>
          <p:cNvPicPr/>
          <p:nvPr/>
        </p:nvPicPr>
        <p:blipFill>
          <a:blip r:embed="rId2"/>
          <a:stretch/>
        </p:blipFill>
        <p:spPr>
          <a:xfrm>
            <a:off x="9956880" y="5892840"/>
            <a:ext cx="2425680" cy="29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482760" y="1208160"/>
            <a:ext cx="12026880" cy="77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1100"/>
              </a:spcBef>
              <a:buClr>
                <a:srgbClr val="020202"/>
              </a:buClr>
              <a:buFont typeface="Lucida Grande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20202"/>
                </a:solidFill>
                <a:latin typeface="Lucida Grande"/>
                <a:ea typeface="Lucida Grande"/>
              </a:rPr>
              <a:t>Structure</a:t>
            </a:r>
            <a:endParaRPr b="0" lang="en-US" sz="6400" spc="-1" strike="noStrike">
              <a:solidFill>
                <a:srgbClr val="49433e"/>
              </a:solidFill>
              <a:latin typeface="Bradley Hand ITC TT-Bold"/>
            </a:endParaRPr>
          </a:p>
          <a:p>
            <a:pPr marL="382680" indent="-343080">
              <a:lnSpc>
                <a:spcPct val="100000"/>
              </a:lnSpc>
              <a:spcBef>
                <a:spcPts val="1400"/>
              </a:spcBef>
              <a:buClr>
                <a:srgbClr val="eaeaea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20202"/>
                </a:solidFill>
                <a:latin typeface="Papyrus"/>
                <a:ea typeface="Papyrus"/>
              </a:rPr>
              <a:t>Stanzas 1 and 2 relate to stanza 3 primarily through…</a:t>
            </a:r>
            <a:endParaRPr b="0" lang="en-US" sz="6400" spc="-1" strike="noStrike">
              <a:solidFill>
                <a:srgbClr val="49433e"/>
              </a:solidFill>
              <a:latin typeface="Bradley Hand ITC TT-Bold"/>
            </a:endParaRPr>
          </a:p>
          <a:p>
            <a:pPr marL="382680" indent="-343080">
              <a:lnSpc>
                <a:spcPct val="100000"/>
              </a:lnSpc>
              <a:spcBef>
                <a:spcPts val="1400"/>
              </a:spcBef>
              <a:buClr>
                <a:srgbClr val="eaeaea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20202"/>
                </a:solidFill>
                <a:latin typeface="Papyrus"/>
                <a:ea typeface="Papyrus"/>
              </a:rPr>
              <a:t>Which of the following divisions of the poem best represents its structure?</a:t>
            </a:r>
            <a:endParaRPr b="0" lang="en-US" sz="64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2"/>
          <a:stretch/>
        </p:blipFill>
        <p:spPr>
          <a:xfrm>
            <a:off x="5435640" y="762120"/>
            <a:ext cx="533412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444600" y="395280"/>
            <a:ext cx="11455200" cy="89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Lucida Grand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heme:</a:t>
            </a:r>
            <a:endParaRPr b="0" lang="en-US" sz="6400" spc="-1" strike="noStrike">
              <a:solidFill>
                <a:srgbClr val="49433e"/>
              </a:solidFill>
              <a:latin typeface="Bradley Hand ITC TT-Bold"/>
            </a:endParaRPr>
          </a:p>
          <a:p>
            <a:pPr marL="382680" indent="-343080">
              <a:lnSpc>
                <a:spcPct val="100000"/>
              </a:lnSpc>
              <a:spcBef>
                <a:spcPts val="1400"/>
              </a:spcBef>
              <a:buClr>
                <a:srgbClr val="eaeaea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Papyrus"/>
                <a:ea typeface="Papyrus"/>
              </a:rPr>
              <a:t>Which of the following best sums up the meaning of stanza 2?</a:t>
            </a:r>
            <a:endParaRPr b="0" lang="en-US" sz="6400" spc="-1" strike="noStrike">
              <a:solidFill>
                <a:srgbClr val="49433e"/>
              </a:solidFill>
              <a:latin typeface="Bradley Hand ITC TT-Bold"/>
            </a:endParaRPr>
          </a:p>
          <a:p>
            <a:pPr marL="382680" indent="-343080">
              <a:lnSpc>
                <a:spcPct val="100000"/>
              </a:lnSpc>
              <a:spcBef>
                <a:spcPts val="1400"/>
              </a:spcBef>
              <a:buClr>
                <a:srgbClr val="eaeaea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Papyrus"/>
                <a:ea typeface="Papyrus"/>
              </a:rPr>
              <a:t>The poet rejects the notion of an indifferent universe because…</a:t>
            </a:r>
            <a:endParaRPr b="0" lang="en-US" sz="64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2"/>
          <a:stretch/>
        </p:blipFill>
        <p:spPr>
          <a:xfrm>
            <a:off x="8928000" y="6578640"/>
            <a:ext cx="3517920" cy="264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380880" y="533520"/>
            <a:ext cx="12242880" cy="86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Lucida Grande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Grammar and meaning of words (in context):</a:t>
            </a:r>
            <a:endParaRPr b="0" lang="en-US" sz="6400" spc="-1" strike="noStrike">
              <a:solidFill>
                <a:srgbClr val="49433e"/>
              </a:solidFill>
              <a:latin typeface="Bradley Hand ITC TT-Bold"/>
            </a:endParaRPr>
          </a:p>
          <a:p>
            <a:pPr marL="382680" indent="-343080">
              <a:lnSpc>
                <a:spcPct val="100000"/>
              </a:lnSpc>
              <a:spcBef>
                <a:spcPts val="1400"/>
              </a:spcBef>
              <a:buClr>
                <a:srgbClr val="eaeaea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Papyrus"/>
                <a:ea typeface="Papyrus"/>
              </a:rPr>
              <a:t>Which of the following best defines the word “glass” as it is used in line 9?</a:t>
            </a:r>
            <a:endParaRPr b="0" lang="en-US" sz="6400" spc="-1" strike="noStrike">
              <a:solidFill>
                <a:srgbClr val="49433e"/>
              </a:solidFill>
              <a:latin typeface="Bradley Hand ITC TT-Bold"/>
            </a:endParaRPr>
          </a:p>
          <a:p>
            <a:pPr marL="382680" indent="-343080">
              <a:lnSpc>
                <a:spcPct val="100000"/>
              </a:lnSpc>
              <a:spcBef>
                <a:spcPts val="1400"/>
              </a:spcBef>
              <a:buClr>
                <a:srgbClr val="eaeaea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Papyrus"/>
                <a:ea typeface="Papyrus"/>
              </a:rPr>
              <a:t>The verb “had done” may best be paraphrased as…</a:t>
            </a:r>
            <a:endParaRPr b="0" lang="en-US" sz="64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596880" y="1170000"/>
            <a:ext cx="12268080" cy="74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1100"/>
              </a:spcBef>
              <a:buClr>
                <a:srgbClr val="040404"/>
              </a:buClr>
              <a:buFont typeface="Lucida Grande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40404"/>
                </a:solidFill>
                <a:latin typeface="Lucida Grande"/>
                <a:ea typeface="Lucida Grande"/>
              </a:rPr>
              <a:t>Images and figurative language:</a:t>
            </a:r>
            <a:endParaRPr b="0" lang="en-US" sz="6400" spc="-1" strike="noStrike">
              <a:solidFill>
                <a:srgbClr val="49433e"/>
              </a:solidFill>
              <a:latin typeface="Bradley Hand ITC TT-Bold"/>
            </a:endParaRPr>
          </a:p>
          <a:p>
            <a:pPr marL="382680" indent="-343080">
              <a:lnSpc>
                <a:spcPct val="100000"/>
              </a:lnSpc>
              <a:spcBef>
                <a:spcPts val="1400"/>
              </a:spcBef>
              <a:buClr>
                <a:srgbClr val="eaeaea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40404"/>
                </a:solidFill>
                <a:latin typeface="Papyrus"/>
                <a:ea typeface="Papyrus"/>
              </a:rPr>
              <a:t>To which of the following does the poet compare his love?</a:t>
            </a:r>
            <a:endParaRPr b="0" lang="en-US" sz="6400" spc="-1" strike="noStrike">
              <a:solidFill>
                <a:srgbClr val="49433e"/>
              </a:solidFill>
              <a:latin typeface="Bradley Hand ITC TT-Bold"/>
            </a:endParaRPr>
          </a:p>
          <a:p>
            <a:pPr marL="382680" indent="-343080">
              <a:lnSpc>
                <a:spcPct val="100000"/>
              </a:lnSpc>
              <a:spcBef>
                <a:spcPts val="1400"/>
              </a:spcBef>
              <a:buClr>
                <a:srgbClr val="eaeaea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40404"/>
                </a:solidFill>
                <a:latin typeface="Papyrus"/>
                <a:ea typeface="Papyrus"/>
              </a:rPr>
              <a:t>The metaphor used in the first line compares English to…</a:t>
            </a:r>
            <a:endParaRPr b="0" lang="en-US" sz="64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pic>
        <p:nvPicPr>
          <p:cNvPr id="51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690120" y="515880"/>
            <a:ext cx="2844720" cy="254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495360" y="1550880"/>
            <a:ext cx="12484080" cy="77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Lucida Grande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Diction:</a:t>
            </a:r>
            <a:endParaRPr b="0" lang="en-US" sz="6400" spc="-1" strike="noStrike">
              <a:solidFill>
                <a:srgbClr val="49433e"/>
              </a:solidFill>
              <a:latin typeface="Bradley Hand ITC TT-Bold"/>
            </a:endParaRPr>
          </a:p>
          <a:p>
            <a:pPr marL="382680" indent="-343080">
              <a:lnSpc>
                <a:spcPct val="100000"/>
              </a:lnSpc>
              <a:spcBef>
                <a:spcPts val="1400"/>
              </a:spcBef>
              <a:buClr>
                <a:srgbClr val="eaeaea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Papyrus"/>
                <a:ea typeface="Papyrus"/>
              </a:rPr>
              <a:t>Which of the following words is used to suggest the poet’s dislike of winter?</a:t>
            </a:r>
            <a:endParaRPr b="0" lang="en-US" sz="6400" spc="-1" strike="noStrike">
              <a:solidFill>
                <a:srgbClr val="49433e"/>
              </a:solidFill>
              <a:latin typeface="Bradley Hand ITC TT-Bold"/>
            </a:endParaRPr>
          </a:p>
          <a:p>
            <a:pPr marL="382680" indent="-343080">
              <a:lnSpc>
                <a:spcPct val="100000"/>
              </a:lnSpc>
              <a:spcBef>
                <a:spcPts val="1400"/>
              </a:spcBef>
              <a:buClr>
                <a:srgbClr val="eaeaea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Papyrus"/>
                <a:ea typeface="Papyrus"/>
              </a:rPr>
              <a:t>The poet’s use of the word “air” in line 8 is to indicate…</a:t>
            </a:r>
            <a:endParaRPr b="0" lang="en-US" sz="64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2"/>
          <a:stretch/>
        </p:blipFill>
        <p:spPr>
          <a:xfrm>
            <a:off x="7112160" y="609480"/>
            <a:ext cx="5244840" cy="19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304920" y="723960"/>
            <a:ext cx="12407760" cy="86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Lucida Grande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one, literary devices, and metrics:</a:t>
            </a:r>
            <a:endParaRPr b="0" lang="en-US" sz="6400" spc="-1" strike="noStrike">
              <a:solidFill>
                <a:srgbClr val="49433e"/>
              </a:solidFill>
              <a:latin typeface="Bradley Hand ITC TT-Bold"/>
            </a:endParaRPr>
          </a:p>
          <a:p>
            <a:pPr marL="382680" indent="-343080">
              <a:lnSpc>
                <a:spcPct val="100000"/>
              </a:lnSpc>
              <a:spcBef>
                <a:spcPts val="1400"/>
              </a:spcBef>
              <a:buClr>
                <a:srgbClr val="eaeaea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Papyrus"/>
                <a:ea typeface="Papyrus"/>
              </a:rPr>
              <a:t>The tone of the poem (or stanza) can best be described as…</a:t>
            </a:r>
            <a:endParaRPr b="0" lang="en-US" sz="6400" spc="-1" strike="noStrike">
              <a:solidFill>
                <a:srgbClr val="49433e"/>
              </a:solidFill>
              <a:latin typeface="Bradley Hand ITC TT-Bold"/>
            </a:endParaRPr>
          </a:p>
          <a:p>
            <a:pPr marL="382680" indent="-343080">
              <a:lnSpc>
                <a:spcPct val="100000"/>
              </a:lnSpc>
              <a:spcBef>
                <a:spcPts val="1400"/>
              </a:spcBef>
              <a:buClr>
                <a:srgbClr val="eaeaea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Papyrus"/>
                <a:ea typeface="Papyrus"/>
              </a:rPr>
              <a:t>The poem is written in…(iambic pentameter, blank verse, etc.)</a:t>
            </a:r>
            <a:endParaRPr b="0" lang="en-US" sz="64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2"/>
          <a:stretch/>
        </p:blipFill>
        <p:spPr>
          <a:xfrm>
            <a:off x="10503000" y="1689120"/>
            <a:ext cx="1895400" cy="237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2717640" y="2362320"/>
            <a:ext cx="68328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18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10101"/>
                </a:solidFill>
                <a:latin typeface="Papyrus"/>
                <a:ea typeface="Papyrus"/>
              </a:rPr>
              <a:t>PROSE</a:t>
            </a:r>
            <a:endParaRPr b="0" lang="en-US" sz="7200" spc="-1" strike="noStrike">
              <a:solidFill>
                <a:srgbClr val="49433e"/>
              </a:solidFill>
              <a:latin typeface="Bradley Hand ITC TT-Bold"/>
            </a:endParaRPr>
          </a:p>
          <a:p>
            <a:pPr marL="39600" algn="ctr">
              <a:lnSpc>
                <a:spcPct val="100000"/>
              </a:lnSpc>
              <a:spcBef>
                <a:spcPts val="18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10101"/>
                </a:solidFill>
                <a:latin typeface="Papyrus"/>
                <a:ea typeface="Papyrus"/>
              </a:rPr>
              <a:t>types of questions:</a:t>
            </a:r>
            <a:endParaRPr b="0" lang="en-US" sz="72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676440" y="3676680"/>
            <a:ext cx="11645640" cy="23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9433e"/>
                </a:solidFill>
                <a:latin typeface="Bradley Hand ITC TT-Bold"/>
                <a:ea typeface="Bradley Hand ITC TT-Bold"/>
              </a:rPr>
              <a:t>QUESTION CONSTRUCTION</a:t>
            </a:r>
            <a:endParaRPr b="0" lang="en-US" sz="72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444600" y="1968480"/>
            <a:ext cx="11607840" cy="77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1100"/>
              </a:spcBef>
              <a:buClr>
                <a:srgbClr val="020202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20202"/>
                </a:solidFill>
                <a:latin typeface="Lucida Grande"/>
                <a:ea typeface="Lucida Grande"/>
              </a:rPr>
              <a:t>Situation and content:</a:t>
            </a:r>
            <a:endParaRPr b="0" lang="en-US" sz="6400" spc="-1" strike="noStrike">
              <a:solidFill>
                <a:srgbClr val="49433e"/>
              </a:solidFill>
              <a:latin typeface="Bradley Hand ITC TT-Bold"/>
            </a:endParaRPr>
          </a:p>
          <a:p>
            <a:pPr marL="382680" indent="-343080">
              <a:lnSpc>
                <a:spcPct val="100000"/>
              </a:lnSpc>
              <a:spcBef>
                <a:spcPts val="1400"/>
              </a:spcBef>
              <a:buClr>
                <a:srgbClr val="eaeaea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20202"/>
                </a:solidFill>
                <a:latin typeface="Papyrus"/>
                <a:ea typeface="Papyrus"/>
              </a:rPr>
              <a:t>The main subject of the passage is…</a:t>
            </a:r>
            <a:endParaRPr b="0" lang="en-US" sz="6400" spc="-1" strike="noStrike">
              <a:solidFill>
                <a:srgbClr val="49433e"/>
              </a:solidFill>
              <a:latin typeface="Bradley Hand ITC TT-Bold"/>
            </a:endParaRPr>
          </a:p>
          <a:p>
            <a:pPr marL="382680" indent="-343080">
              <a:lnSpc>
                <a:spcPct val="100000"/>
              </a:lnSpc>
              <a:spcBef>
                <a:spcPts val="1400"/>
              </a:spcBef>
              <a:buClr>
                <a:srgbClr val="eaeaea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20202"/>
                </a:solidFill>
                <a:latin typeface="Papyrus"/>
                <a:ea typeface="Papyrus"/>
              </a:rPr>
              <a:t>In the third paragraph, the author is chiefly concerned with…</a:t>
            </a:r>
            <a:endParaRPr b="0" lang="en-US" sz="64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2"/>
          <a:stretch/>
        </p:blipFill>
        <p:spPr>
          <a:xfrm>
            <a:off x="4127400" y="322200"/>
            <a:ext cx="4508640" cy="181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127080" y="1157400"/>
            <a:ext cx="12217320" cy="72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1100"/>
              </a:spcBef>
              <a:buClr>
                <a:srgbClr val="020202"/>
              </a:buClr>
              <a:buFont typeface="Lucida Grande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20202"/>
                </a:solidFill>
                <a:latin typeface="Lucida Grande"/>
                <a:ea typeface="Lucida Grande"/>
              </a:rPr>
              <a:t>Meaning of words and phrases:</a:t>
            </a:r>
            <a:endParaRPr b="0" lang="en-US" sz="6000" spc="-1" strike="noStrike">
              <a:solidFill>
                <a:srgbClr val="49433e"/>
              </a:solidFill>
              <a:latin typeface="Bradley Hand ITC TT-Bold"/>
            </a:endParaRPr>
          </a:p>
          <a:p>
            <a:pPr marL="382680" indent="-343080">
              <a:lnSpc>
                <a:spcPct val="100000"/>
              </a:lnSpc>
              <a:spcBef>
                <a:spcPts val="1400"/>
              </a:spcBef>
              <a:buClr>
                <a:srgbClr val="eaeaea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20202"/>
                </a:solidFill>
                <a:latin typeface="Papyrus"/>
                <a:ea typeface="Papyrus"/>
              </a:rPr>
              <a:t>In line 7, the word x employs all of the following meanings EXCEPT…</a:t>
            </a:r>
            <a:endParaRPr b="0" lang="en-US" sz="6000" spc="-1" strike="noStrike">
              <a:solidFill>
                <a:srgbClr val="49433e"/>
              </a:solidFill>
              <a:latin typeface="Bradley Hand ITC TT-Bold"/>
            </a:endParaRPr>
          </a:p>
          <a:p>
            <a:pPr marL="382680" indent="-343080">
              <a:lnSpc>
                <a:spcPct val="100000"/>
              </a:lnSpc>
              <a:spcBef>
                <a:spcPts val="1400"/>
              </a:spcBef>
              <a:buClr>
                <a:srgbClr val="eaeaea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20202"/>
                </a:solidFill>
                <a:latin typeface="Papyrus"/>
                <a:ea typeface="Papyrus"/>
              </a:rPr>
              <a:t>As it is used in line 2, the phrase x can be best understood to mean…</a:t>
            </a:r>
            <a:endParaRPr b="0" lang="en-US" sz="60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254160" y="1257480"/>
            <a:ext cx="11391840" cy="64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1100"/>
              </a:spcBef>
              <a:buClr>
                <a:srgbClr val="010101"/>
              </a:buClr>
              <a:buFont typeface="Lucida Grand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10101"/>
                </a:solidFill>
                <a:latin typeface="Lucida Grande"/>
                <a:ea typeface="Lucida Grande"/>
              </a:rPr>
              <a:t>Grammar:</a:t>
            </a:r>
            <a:endParaRPr b="0" lang="en-US" sz="6400" spc="-1" strike="noStrike">
              <a:solidFill>
                <a:srgbClr val="49433e"/>
              </a:solidFill>
              <a:latin typeface="Bradley Hand ITC TT-Bold"/>
            </a:endParaRPr>
          </a:p>
          <a:p>
            <a:pPr marL="382680" indent="-343080">
              <a:lnSpc>
                <a:spcPct val="100000"/>
              </a:lnSpc>
              <a:spcBef>
                <a:spcPts val="1400"/>
              </a:spcBef>
              <a:buClr>
                <a:srgbClr val="eaeaea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10101"/>
                </a:solidFill>
                <a:latin typeface="Papyrus"/>
                <a:ea typeface="Papyrus"/>
              </a:rPr>
              <a:t>In line 12, the antecedent of “it” is…</a:t>
            </a:r>
            <a:endParaRPr b="0" lang="en-US" sz="6400" spc="-1" strike="noStrike">
              <a:solidFill>
                <a:srgbClr val="49433e"/>
              </a:solidFill>
              <a:latin typeface="Bradley Hand ITC TT-Bold"/>
            </a:endParaRPr>
          </a:p>
          <a:p>
            <a:pPr marL="382680" indent="-343080">
              <a:lnSpc>
                <a:spcPct val="100000"/>
              </a:lnSpc>
              <a:spcBef>
                <a:spcPts val="1400"/>
              </a:spcBef>
              <a:buClr>
                <a:srgbClr val="eaeaea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10101"/>
                </a:solidFill>
                <a:latin typeface="Papyrus"/>
                <a:ea typeface="Papyrus"/>
              </a:rPr>
              <a:t>The subject of the verb x on line 13 is…</a:t>
            </a:r>
            <a:endParaRPr b="0" lang="en-US" sz="64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7467480" y="6591240"/>
            <a:ext cx="5079960" cy="250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241200" y="1917720"/>
            <a:ext cx="12509640" cy="77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Lucida Grande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Diction:</a:t>
            </a:r>
            <a:endParaRPr b="0" lang="en-US" sz="6400" spc="-1" strike="noStrike">
              <a:solidFill>
                <a:srgbClr val="49433e"/>
              </a:solidFill>
              <a:latin typeface="Bradley Hand ITC TT-Bold"/>
            </a:endParaRPr>
          </a:p>
          <a:p>
            <a:pPr marL="382680" indent="-343080">
              <a:lnSpc>
                <a:spcPct val="100000"/>
              </a:lnSpc>
              <a:spcBef>
                <a:spcPts val="1400"/>
              </a:spcBef>
              <a:buClr>
                <a:srgbClr val="eaeaea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Papyrus"/>
                <a:ea typeface="Papyrus"/>
              </a:rPr>
              <a:t>The speaker’s choice of verbs in the paragraph is to stress…</a:t>
            </a:r>
            <a:endParaRPr b="0" lang="en-US" sz="6400" spc="-1" strike="noStrike">
              <a:solidFill>
                <a:srgbClr val="49433e"/>
              </a:solidFill>
              <a:latin typeface="Bradley Hand ITC TT-Bold"/>
            </a:endParaRPr>
          </a:p>
          <a:p>
            <a:pPr marL="382680" indent="-343080">
              <a:lnSpc>
                <a:spcPct val="100000"/>
              </a:lnSpc>
              <a:spcBef>
                <a:spcPts val="1400"/>
              </a:spcBef>
              <a:buClr>
                <a:srgbClr val="eaeaea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Papyrus"/>
                <a:ea typeface="Papyrus"/>
              </a:rPr>
              <a:t>The speaker’s anger is suggested by all of the following EXCEPT…</a:t>
            </a:r>
            <a:endParaRPr b="0" lang="en-US" sz="64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2"/>
          <a:stretch/>
        </p:blipFill>
        <p:spPr>
          <a:xfrm>
            <a:off x="7074000" y="533520"/>
            <a:ext cx="5333760" cy="218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520560" y="419040"/>
            <a:ext cx="12103200" cy="64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Lucida Grande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Figurative language:</a:t>
            </a:r>
            <a:endParaRPr b="0" lang="en-US" sz="6400" spc="-1" strike="noStrike">
              <a:solidFill>
                <a:srgbClr val="49433e"/>
              </a:solidFill>
              <a:latin typeface="Bradley Hand ITC TT-Bold"/>
            </a:endParaRPr>
          </a:p>
          <a:p>
            <a:pPr marL="382680" indent="-343080">
              <a:lnSpc>
                <a:spcPct val="100000"/>
              </a:lnSpc>
              <a:spcBef>
                <a:spcPts val="1400"/>
              </a:spcBef>
              <a:buClr>
                <a:srgbClr val="eaeaea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Papyrus"/>
                <a:ea typeface="Papyrus"/>
              </a:rPr>
              <a:t>The purpose of the astronomy metaphor in line 9 is to…</a:t>
            </a:r>
            <a:endParaRPr b="0" lang="en-US" sz="6400" spc="-1" strike="noStrike">
              <a:solidFill>
                <a:srgbClr val="49433e"/>
              </a:solidFill>
              <a:latin typeface="Bradley Hand ITC TT-Bold"/>
            </a:endParaRPr>
          </a:p>
          <a:p>
            <a:pPr marL="382680" indent="-343080">
              <a:lnSpc>
                <a:spcPct val="100000"/>
              </a:lnSpc>
              <a:spcBef>
                <a:spcPts val="1400"/>
              </a:spcBef>
              <a:buClr>
                <a:srgbClr val="eaeaea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Papyrus"/>
                <a:ea typeface="Papyrus"/>
              </a:rPr>
              <a:t>The point of the simile in lines 18 – 23 is to illustrate…</a:t>
            </a:r>
            <a:endParaRPr b="0" lang="en-US" sz="64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4127400" y="7010280"/>
            <a:ext cx="5092560" cy="2209680"/>
            <a:chOff x="4127400" y="7010280"/>
            <a:chExt cx="5092560" cy="2209680"/>
          </a:xfrm>
        </p:grpSpPr>
        <p:pic>
          <p:nvPicPr>
            <p:cNvPr id="533" name="" descr="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6824520" y="7010280"/>
              <a:ext cx="2395440" cy="218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4" name="" descr=""/>
            <p:cNvPicPr/>
            <p:nvPr/>
          </p:nvPicPr>
          <p:blipFill>
            <a:blip r:embed="rId4"/>
            <a:stretch/>
          </p:blipFill>
          <p:spPr>
            <a:xfrm>
              <a:off x="4127400" y="7010280"/>
              <a:ext cx="2554200" cy="22096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43080" y="393840"/>
            <a:ext cx="12318840" cy="89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1100"/>
              </a:spcBef>
              <a:buClr>
                <a:srgbClr val="050505"/>
              </a:buClr>
              <a:buFont typeface="Lucida Grande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50505"/>
                </a:solidFill>
                <a:latin typeface="Lucida Grande"/>
                <a:ea typeface="Lucida Grande"/>
              </a:rPr>
              <a:t>Structure:</a:t>
            </a:r>
            <a:endParaRPr b="0" lang="en-US" sz="6400" spc="-1" strike="noStrike">
              <a:solidFill>
                <a:srgbClr val="49433e"/>
              </a:solidFill>
              <a:latin typeface="Bradley Hand ITC TT-Bold"/>
            </a:endParaRPr>
          </a:p>
          <a:p>
            <a:pPr marL="382680" indent="-343080">
              <a:lnSpc>
                <a:spcPct val="100000"/>
              </a:lnSpc>
              <a:spcBef>
                <a:spcPts val="1400"/>
              </a:spcBef>
              <a:buClr>
                <a:srgbClr val="eaeaea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50505"/>
                </a:solidFill>
                <a:latin typeface="Papyrus"/>
                <a:ea typeface="Papyrus"/>
              </a:rPr>
              <a:t>The last paragraph of the passage is related to the first chiefly by…</a:t>
            </a:r>
            <a:endParaRPr b="0" lang="en-US" sz="6400" spc="-1" strike="noStrike">
              <a:solidFill>
                <a:srgbClr val="49433e"/>
              </a:solidFill>
              <a:latin typeface="Bradley Hand ITC TT-Bold"/>
            </a:endParaRPr>
          </a:p>
          <a:p>
            <a:pPr marL="382680" indent="-343080">
              <a:lnSpc>
                <a:spcPct val="100000"/>
              </a:lnSpc>
              <a:spcBef>
                <a:spcPts val="1400"/>
              </a:spcBef>
              <a:buClr>
                <a:srgbClr val="eaeaea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50505"/>
                </a:solidFill>
                <a:latin typeface="Papyrus"/>
                <a:ea typeface="Papyrus"/>
              </a:rPr>
              <a:t>The transitions between paragraphs are dependent upon…</a:t>
            </a:r>
            <a:endParaRPr b="0" lang="en-US" sz="64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228600" y="685800"/>
            <a:ext cx="12255480" cy="64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Lucida Grande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Literary techniques:</a:t>
            </a:r>
            <a:endParaRPr b="0" lang="en-US" sz="6400" spc="-1" strike="noStrike">
              <a:solidFill>
                <a:srgbClr val="49433e"/>
              </a:solidFill>
              <a:latin typeface="Bradley Hand ITC TT-Bold"/>
            </a:endParaRPr>
          </a:p>
          <a:p>
            <a:pPr marL="382680" indent="-343080">
              <a:lnSpc>
                <a:spcPct val="100000"/>
              </a:lnSpc>
              <a:spcBef>
                <a:spcPts val="1400"/>
              </a:spcBef>
              <a:buClr>
                <a:srgbClr val="eaeaea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Papyrus"/>
                <a:ea typeface="Papyrus"/>
              </a:rPr>
              <a:t>All of the following phrases are paradoxes EXCEPT…</a:t>
            </a:r>
            <a:endParaRPr b="0" lang="en-US" sz="6400" spc="-1" strike="noStrike">
              <a:solidFill>
                <a:srgbClr val="49433e"/>
              </a:solidFill>
              <a:latin typeface="Bradley Hand ITC TT-Bold"/>
            </a:endParaRPr>
          </a:p>
          <a:p>
            <a:pPr marL="382680" indent="-343080">
              <a:lnSpc>
                <a:spcPct val="100000"/>
              </a:lnSpc>
              <a:spcBef>
                <a:spcPts val="1400"/>
              </a:spcBef>
              <a:buClr>
                <a:srgbClr val="eaeaea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Papyrus"/>
                <a:ea typeface="Papyrus"/>
              </a:rPr>
              <a:t>The phrase “silent scream” is an example of…</a:t>
            </a:r>
            <a:endParaRPr b="0" lang="en-US" sz="64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2"/>
          <a:srcRect l="12598" t="15277" r="11959" b="8561"/>
          <a:stretch/>
        </p:blipFill>
        <p:spPr>
          <a:xfrm>
            <a:off x="6375240" y="5638680"/>
            <a:ext cx="6108840" cy="355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304920" y="393840"/>
            <a:ext cx="12395160" cy="89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1100"/>
              </a:spcBef>
              <a:buClr>
                <a:srgbClr val="020202"/>
              </a:buClr>
              <a:buFont typeface="Lucida Grande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20202"/>
                </a:solidFill>
                <a:latin typeface="Lucida Grande"/>
                <a:ea typeface="Lucida Grande"/>
              </a:rPr>
              <a:t>Rhetoric:</a:t>
            </a:r>
            <a:endParaRPr b="0" lang="en-US" sz="6400" spc="-1" strike="noStrike">
              <a:solidFill>
                <a:srgbClr val="49433e"/>
              </a:solidFill>
              <a:latin typeface="Bradley Hand ITC TT-Bold"/>
            </a:endParaRPr>
          </a:p>
          <a:p>
            <a:pPr marL="382680" indent="-343080">
              <a:lnSpc>
                <a:spcPct val="100000"/>
              </a:lnSpc>
              <a:spcBef>
                <a:spcPts val="1400"/>
              </a:spcBef>
              <a:buClr>
                <a:srgbClr val="eaeaea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20202"/>
                </a:solidFill>
                <a:latin typeface="Papyrus"/>
                <a:ea typeface="Papyrus"/>
              </a:rPr>
              <a:t>Which of the following best describes the function of the last sentence?</a:t>
            </a:r>
            <a:endParaRPr b="0" lang="en-US" sz="6400" spc="-1" strike="noStrike">
              <a:solidFill>
                <a:srgbClr val="49433e"/>
              </a:solidFill>
              <a:latin typeface="Bradley Hand ITC TT-Bold"/>
            </a:endParaRPr>
          </a:p>
          <a:p>
            <a:pPr marL="382680" indent="-343080">
              <a:lnSpc>
                <a:spcPct val="100000"/>
              </a:lnSpc>
              <a:spcBef>
                <a:spcPts val="1400"/>
              </a:spcBef>
              <a:buClr>
                <a:srgbClr val="eaeaea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20202"/>
                </a:solidFill>
                <a:latin typeface="Papyrus"/>
                <a:ea typeface="Papyrus"/>
              </a:rPr>
              <a:t>The effect of switching from past to present tense in the third paragraph is…</a:t>
            </a:r>
            <a:endParaRPr b="0" lang="en-US" sz="64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584280" y="1170000"/>
            <a:ext cx="12039480" cy="77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1100"/>
              </a:spcBef>
              <a:buClr>
                <a:srgbClr val="010101"/>
              </a:buClr>
              <a:buFont typeface="Lucida Grande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10101"/>
                </a:solidFill>
                <a:latin typeface="Lucida Grande"/>
                <a:ea typeface="Lucida Grande"/>
              </a:rPr>
              <a:t>Tone:</a:t>
            </a:r>
            <a:endParaRPr b="0" lang="en-US" sz="6400" spc="-1" strike="noStrike">
              <a:solidFill>
                <a:srgbClr val="49433e"/>
              </a:solidFill>
              <a:latin typeface="Bradley Hand ITC TT-Bold"/>
            </a:endParaRPr>
          </a:p>
          <a:p>
            <a:pPr marL="382680" indent="-343080">
              <a:lnSpc>
                <a:spcPct val="100000"/>
              </a:lnSpc>
              <a:spcBef>
                <a:spcPts val="1400"/>
              </a:spcBef>
              <a:buClr>
                <a:srgbClr val="eaeaea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10101"/>
                </a:solidFill>
                <a:latin typeface="Papyrus"/>
                <a:ea typeface="Papyrus"/>
              </a:rPr>
              <a:t>The tone of the passage can best be described as…</a:t>
            </a:r>
            <a:endParaRPr b="0" lang="en-US" sz="6400" spc="-1" strike="noStrike">
              <a:solidFill>
                <a:srgbClr val="49433e"/>
              </a:solidFill>
              <a:latin typeface="Bradley Hand ITC TT-Bold"/>
            </a:endParaRPr>
          </a:p>
          <a:p>
            <a:pPr marL="382680" indent="-343080">
              <a:lnSpc>
                <a:spcPct val="100000"/>
              </a:lnSpc>
              <a:spcBef>
                <a:spcPts val="1400"/>
              </a:spcBef>
              <a:buClr>
                <a:srgbClr val="eaeaea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10101"/>
                </a:solidFill>
                <a:latin typeface="Papyrus"/>
                <a:ea typeface="Papyrus"/>
              </a:rPr>
              <a:t>The speaker shifts tones in paragraph 4 primarily through the use of…</a:t>
            </a:r>
            <a:endParaRPr b="0" lang="en-US" sz="64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482760" y="457200"/>
            <a:ext cx="11836080" cy="9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40404"/>
                </a:solidFill>
                <a:latin typeface="Papyrus"/>
                <a:ea typeface="Papyrus"/>
              </a:rPr>
              <a:t>1.  General to whole passage</a:t>
            </a:r>
            <a:endParaRPr b="0" lang="en-US" sz="58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40404"/>
                </a:solidFill>
                <a:latin typeface="Papyrus"/>
                <a:ea typeface="Papyrus"/>
              </a:rPr>
              <a:t>2.  Referencing specific line numbers or paragraphs</a:t>
            </a:r>
            <a:endParaRPr b="0" lang="en-US" sz="5800" spc="-1" strike="noStrike">
              <a:solidFill>
                <a:srgbClr val="49433e"/>
              </a:solidFill>
              <a:latin typeface="Bradley Hand ITC TT-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40404"/>
                </a:solidFill>
                <a:latin typeface="Papyrus"/>
                <a:ea typeface="Papyrus"/>
              </a:rPr>
              <a:t>3.  Giving three options, numbered using Roman numerals, then offering choices as a combination of the three (e.g. A. I only, B. I and II, C. I and III, etc.)</a:t>
            </a:r>
            <a:endParaRPr b="0" lang="en-US" sz="5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609480" y="1359000"/>
            <a:ext cx="10896840" cy="76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10101"/>
                </a:solidFill>
                <a:latin typeface="Lucida Grande"/>
                <a:ea typeface="Lucida Grande"/>
              </a:rPr>
              <a:t>Qualifiers</a:t>
            </a:r>
            <a:r>
              <a:rPr b="0" lang="en-US" sz="6400" spc="-1" strike="noStrike">
                <a:solidFill>
                  <a:srgbClr val="010101"/>
                </a:solidFill>
                <a:latin typeface="Papyrus"/>
                <a:ea typeface="Papyrus"/>
              </a:rPr>
              <a:t>:</a:t>
            </a:r>
            <a:endParaRPr b="0" lang="en-US" sz="6400" spc="-1" strike="noStrike">
              <a:solidFill>
                <a:srgbClr val="49433e"/>
              </a:solidFill>
              <a:latin typeface="Bradley Hand ITC TT-Bold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10101"/>
                </a:solidFill>
                <a:latin typeface="Papyrus"/>
                <a:ea typeface="Papyrus"/>
              </a:rPr>
              <a:t>Words that are used in the stem of the question to narrow the focus</a:t>
            </a:r>
            <a:endParaRPr b="0" lang="en-US" sz="6400" spc="-1" strike="noStrike">
              <a:solidFill>
                <a:srgbClr val="49433e"/>
              </a:solidFill>
              <a:latin typeface="Bradley Hand ITC TT-Bold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10101"/>
                </a:solidFill>
                <a:latin typeface="Papyrus"/>
                <a:ea typeface="Papyrus"/>
              </a:rPr>
              <a:t>(and attempt to trip you up!)</a:t>
            </a:r>
            <a:endParaRPr b="0" lang="en-US" sz="6400" spc="-1" strike="noStrike">
              <a:solidFill>
                <a:srgbClr val="49433e"/>
              </a:solidFill>
              <a:latin typeface="Bradley Hand ITC TT-Bold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571680" y="584280"/>
            <a:ext cx="12432960" cy="890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10101"/>
                </a:solidFill>
                <a:latin typeface="Papyrus"/>
                <a:ea typeface="Papyrus"/>
              </a:rPr>
              <a:t>Examples of Qualifiers:</a:t>
            </a:r>
            <a:endParaRPr b="0" lang="en-US" sz="6400" spc="-1" strike="noStrike">
              <a:solidFill>
                <a:srgbClr val="49433e"/>
              </a:solidFill>
              <a:latin typeface="Bradley Hand ITC TT-Bold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10101"/>
                </a:solidFill>
                <a:latin typeface="Papyrus"/>
                <a:ea typeface="Papyrus"/>
              </a:rPr>
              <a:t>NOT</a:t>
            </a:r>
            <a:endParaRPr b="0" lang="en-US" sz="6400" spc="-1" strike="noStrike">
              <a:solidFill>
                <a:srgbClr val="49433e"/>
              </a:solidFill>
              <a:latin typeface="Bradley Hand ITC TT-Bold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10101"/>
                </a:solidFill>
                <a:latin typeface="Papyrus"/>
                <a:ea typeface="Papyrus"/>
              </a:rPr>
              <a:t>LEAST</a:t>
            </a:r>
            <a:endParaRPr b="0" lang="en-US" sz="6400" spc="-1" strike="noStrike">
              <a:solidFill>
                <a:srgbClr val="49433e"/>
              </a:solidFill>
              <a:latin typeface="Bradley Hand ITC TT-Bold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10101"/>
                </a:solidFill>
                <a:latin typeface="Papyrus"/>
                <a:ea typeface="Papyrus"/>
              </a:rPr>
              <a:t>EXCEPT</a:t>
            </a:r>
            <a:endParaRPr b="0" lang="en-US" sz="6400" spc="-1" strike="noStrike">
              <a:solidFill>
                <a:srgbClr val="49433e"/>
              </a:solidFill>
              <a:latin typeface="Bradley Hand ITC TT-Bold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10101"/>
                </a:solidFill>
                <a:latin typeface="Papyrus"/>
                <a:ea typeface="Papyrus"/>
              </a:rPr>
              <a:t>BEST</a:t>
            </a:r>
            <a:endParaRPr b="0" lang="en-US" sz="6400" spc="-1" strike="noStrike">
              <a:solidFill>
                <a:srgbClr val="49433e"/>
              </a:solidFill>
              <a:latin typeface="Bradley Hand ITC TT-Bold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10101"/>
                </a:solidFill>
                <a:latin typeface="Papyrus"/>
                <a:ea typeface="Papyrus"/>
              </a:rPr>
              <a:t>PRIMARILY</a:t>
            </a:r>
            <a:endParaRPr b="0" lang="en-US" sz="6400" spc="-1" strike="noStrike">
              <a:solidFill>
                <a:srgbClr val="49433e"/>
              </a:solidFill>
              <a:latin typeface="Bradley Hand ITC TT-Bold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10101"/>
                </a:solidFill>
                <a:latin typeface="Papyrus"/>
                <a:ea typeface="Papyrus"/>
              </a:rPr>
              <a:t>MOST LIKELY</a:t>
            </a:r>
            <a:endParaRPr b="0" lang="en-US" sz="64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990720" y="2692440"/>
            <a:ext cx="11480760" cy="43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60606"/>
                </a:solidFill>
                <a:latin typeface="Lucida Grande"/>
                <a:ea typeface="Lucida Grande"/>
              </a:rPr>
              <a:t>Verbs</a:t>
            </a:r>
            <a:r>
              <a:rPr b="0" lang="en-US" sz="7200" spc="-1" strike="noStrike">
                <a:solidFill>
                  <a:srgbClr val="060606"/>
                </a:solidFill>
                <a:latin typeface="Papyrus"/>
                <a:ea typeface="Papyrus"/>
              </a:rPr>
              <a:t> used most frequently (in order from most to least):</a:t>
            </a:r>
            <a:endParaRPr b="0" lang="en-US" sz="72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533520" y="920880"/>
            <a:ext cx="7797600" cy="82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60606"/>
                </a:solidFill>
                <a:latin typeface="Papyrus"/>
                <a:ea typeface="Papyrus"/>
              </a:rPr>
              <a:t>Implies/suggests/hints</a:t>
            </a:r>
            <a:endParaRPr b="0" lang="en-US" sz="6000" spc="-1" strike="noStrike">
              <a:solidFill>
                <a:srgbClr val="49433e"/>
              </a:solidFill>
              <a:latin typeface="Bradley Hand ITC TT-Bold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60606"/>
                </a:solidFill>
                <a:latin typeface="Papyrus"/>
                <a:ea typeface="Papyrus"/>
              </a:rPr>
              <a:t>Describes</a:t>
            </a:r>
            <a:endParaRPr b="0" lang="en-US" sz="6000" spc="-1" strike="noStrike">
              <a:solidFill>
                <a:srgbClr val="49433e"/>
              </a:solidFill>
              <a:latin typeface="Bradley Hand ITC TT-Bold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60606"/>
                </a:solidFill>
                <a:latin typeface="Papyrus"/>
                <a:ea typeface="Papyrus"/>
              </a:rPr>
              <a:t>Labeled as/classified</a:t>
            </a:r>
            <a:endParaRPr b="0" lang="en-US" sz="6000" spc="-1" strike="noStrike">
              <a:solidFill>
                <a:srgbClr val="49433e"/>
              </a:solidFill>
              <a:latin typeface="Bradley Hand ITC TT-Bold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60606"/>
                </a:solidFill>
                <a:latin typeface="Papyrus"/>
                <a:ea typeface="Papyrus"/>
              </a:rPr>
              <a:t>Interprets</a:t>
            </a:r>
            <a:endParaRPr b="0" lang="en-US" sz="6000" spc="-1" strike="noStrike">
              <a:solidFill>
                <a:srgbClr val="49433e"/>
              </a:solidFill>
              <a:latin typeface="Bradley Hand ITC TT-Bold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60606"/>
                </a:solidFill>
                <a:latin typeface="Papyrus"/>
                <a:ea typeface="Papyrus"/>
              </a:rPr>
              <a:t>Accents</a:t>
            </a:r>
            <a:endParaRPr b="0" lang="en-US" sz="6000" spc="-1" strike="noStrike">
              <a:solidFill>
                <a:srgbClr val="49433e"/>
              </a:solidFill>
              <a:latin typeface="Bradley Hand ITC TT-Bold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60606"/>
                </a:solidFill>
                <a:latin typeface="Papyrus"/>
                <a:ea typeface="Papyrus"/>
              </a:rPr>
              <a:t>Cites</a:t>
            </a:r>
            <a:endParaRPr b="0" lang="en-US" sz="60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503" name=""/>
          <p:cNvSpPr/>
          <p:nvPr/>
        </p:nvSpPr>
        <p:spPr>
          <a:xfrm>
            <a:off x="8559720" y="4311360"/>
            <a:ext cx="43023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ctr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60606"/>
                </a:solidFill>
                <a:latin typeface="Papyrus"/>
                <a:ea typeface="Papyrus"/>
              </a:rPr>
              <a:t>Emphasizes</a:t>
            </a:r>
            <a:endParaRPr b="0" lang="en-US" sz="6000" spc="-1" strike="noStrike">
              <a:solidFill>
                <a:srgbClr val="49433e"/>
              </a:solidFill>
              <a:latin typeface="Bradley Hand ITC TT-Bold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60606"/>
                </a:solidFill>
                <a:latin typeface="Papyrus"/>
                <a:ea typeface="Papyrus"/>
              </a:rPr>
              <a:t>Dramatizes</a:t>
            </a:r>
            <a:endParaRPr b="0" lang="en-US" sz="6000" spc="-1" strike="noStrike">
              <a:solidFill>
                <a:srgbClr val="49433e"/>
              </a:solidFill>
              <a:latin typeface="Bradley Hand ITC TT-Bold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60606"/>
                </a:solidFill>
                <a:latin typeface="Papyrus"/>
                <a:ea typeface="Papyrus"/>
              </a:rPr>
              <a:t>Reflects</a:t>
            </a:r>
            <a:endParaRPr b="0" lang="en-US" sz="6000" spc="-1" strike="noStrike">
              <a:solidFill>
                <a:srgbClr val="49433e"/>
              </a:solidFill>
              <a:latin typeface="Bradley Hand ITC TT-Bold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60606"/>
                </a:solidFill>
                <a:latin typeface="Papyrus"/>
                <a:ea typeface="Papyrus"/>
              </a:rPr>
              <a:t>Infers </a:t>
            </a:r>
            <a:endParaRPr b="0" lang="en-US" sz="6000" spc="-1" strike="noStrike">
              <a:solidFill>
                <a:srgbClr val="49433e"/>
              </a:solidFill>
              <a:latin typeface="Bradley Hand ITC TT-Bold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60606"/>
                </a:solidFill>
                <a:latin typeface="Papyrus"/>
                <a:ea typeface="Papyrus"/>
              </a:rPr>
              <a:t>Identifies</a:t>
            </a:r>
            <a:endParaRPr b="0" lang="en-US" sz="60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647640" y="2133720"/>
            <a:ext cx="11937960" cy="54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Papyrus"/>
                <a:ea typeface="Papyrus"/>
              </a:rPr>
              <a:t>Specific </a:t>
            </a:r>
            <a:r>
              <a:rPr b="1" lang="en-US" sz="7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literary elements/rhetorical devices</a:t>
            </a:r>
            <a:r>
              <a:rPr b="0" lang="en-US" sz="7200" spc="-1" strike="noStrike">
                <a:solidFill>
                  <a:srgbClr val="000000"/>
                </a:solidFill>
                <a:latin typeface="Papyrus"/>
                <a:ea typeface="Papyrus"/>
              </a:rPr>
              <a:t> targeted (in order of frequency):</a:t>
            </a:r>
            <a:endParaRPr b="0" lang="en-US" sz="72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431640" y="635040"/>
            <a:ext cx="6388200" cy="9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buClr>
                <a:srgbClr val="eaeaea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20202"/>
                </a:solidFill>
                <a:latin typeface="Papyrus"/>
                <a:ea typeface="Papyrus"/>
              </a:rPr>
              <a:t>Characterization/depiction</a:t>
            </a:r>
            <a:endParaRPr b="0" lang="en-US" sz="4000" spc="-1" strike="noStrike">
              <a:solidFill>
                <a:srgbClr val="49433e"/>
              </a:solidFill>
              <a:latin typeface="Bradley Hand ITC TT-Bold"/>
            </a:endParaRPr>
          </a:p>
          <a:p>
            <a:pPr marL="39600">
              <a:lnSpc>
                <a:spcPct val="100000"/>
              </a:lnSpc>
              <a:buClr>
                <a:srgbClr val="eaeaea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20202"/>
                </a:solidFill>
                <a:latin typeface="Papyrus"/>
                <a:ea typeface="Papyrus"/>
              </a:rPr>
              <a:t>Irony</a:t>
            </a:r>
            <a:endParaRPr b="0" lang="en-US" sz="4000" spc="-1" strike="noStrike">
              <a:solidFill>
                <a:srgbClr val="49433e"/>
              </a:solidFill>
              <a:latin typeface="Bradley Hand ITC TT-Bold"/>
            </a:endParaRPr>
          </a:p>
          <a:p>
            <a:pPr marL="39600">
              <a:lnSpc>
                <a:spcPct val="100000"/>
              </a:lnSpc>
              <a:buClr>
                <a:srgbClr val="eaeaea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20202"/>
                </a:solidFill>
                <a:latin typeface="Papyrus"/>
                <a:ea typeface="Papyrus"/>
              </a:rPr>
              <a:t>Contrast/juxtaposition</a:t>
            </a:r>
            <a:endParaRPr b="0" lang="en-US" sz="4000" spc="-1" strike="noStrike">
              <a:solidFill>
                <a:srgbClr val="49433e"/>
              </a:solidFill>
              <a:latin typeface="Bradley Hand ITC TT-Bold"/>
            </a:endParaRPr>
          </a:p>
          <a:p>
            <a:pPr marL="39600">
              <a:lnSpc>
                <a:spcPct val="100000"/>
              </a:lnSpc>
              <a:buClr>
                <a:srgbClr val="eaeaea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20202"/>
                </a:solidFill>
                <a:latin typeface="Papyrus"/>
                <a:ea typeface="Papyrus"/>
              </a:rPr>
              <a:t>The use of figurative language</a:t>
            </a:r>
            <a:endParaRPr b="0" lang="en-US" sz="4000" spc="-1" strike="noStrike">
              <a:solidFill>
                <a:srgbClr val="49433e"/>
              </a:solidFill>
              <a:latin typeface="Bradley Hand ITC TT-Bold"/>
            </a:endParaRPr>
          </a:p>
          <a:p>
            <a:pPr marL="39600">
              <a:lnSpc>
                <a:spcPct val="100000"/>
              </a:lnSpc>
              <a:buClr>
                <a:srgbClr val="eaeaea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20202"/>
                </a:solidFill>
                <a:latin typeface="Papyrus"/>
                <a:ea typeface="Papyrus"/>
              </a:rPr>
              <a:t>Using context clues to discern best meanings</a:t>
            </a:r>
            <a:endParaRPr b="0" lang="en-US" sz="4000" spc="-1" strike="noStrike">
              <a:solidFill>
                <a:srgbClr val="49433e"/>
              </a:solidFill>
              <a:latin typeface="Bradley Hand ITC TT-Bold"/>
            </a:endParaRPr>
          </a:p>
          <a:p>
            <a:pPr marL="39600">
              <a:lnSpc>
                <a:spcPct val="100000"/>
              </a:lnSpc>
              <a:buClr>
                <a:srgbClr val="eaeaea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20202"/>
                </a:solidFill>
                <a:latin typeface="Papyrus"/>
                <a:ea typeface="Papyrus"/>
              </a:rPr>
              <a:t>Author’s purpose overall and in specific paragraphs</a:t>
            </a:r>
            <a:endParaRPr b="0" lang="en-US" sz="4000" spc="-1" strike="noStrike">
              <a:solidFill>
                <a:srgbClr val="49433e"/>
              </a:solidFill>
              <a:latin typeface="Bradley Hand ITC TT-Bold"/>
            </a:endParaRPr>
          </a:p>
          <a:p>
            <a:pPr marL="39600">
              <a:lnSpc>
                <a:spcPct val="100000"/>
              </a:lnSpc>
              <a:buClr>
                <a:srgbClr val="eaeaea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20202"/>
                </a:solidFill>
                <a:latin typeface="Papyrus"/>
                <a:ea typeface="Papyrus"/>
              </a:rPr>
              <a:t>Author’s style in general</a:t>
            </a:r>
            <a:endParaRPr b="0" lang="en-US" sz="4000" spc="-1" strike="noStrike">
              <a:solidFill>
                <a:srgbClr val="49433e"/>
              </a:solidFill>
              <a:latin typeface="Bradley Hand ITC TT-Bold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506" name=""/>
          <p:cNvSpPr/>
          <p:nvPr/>
        </p:nvSpPr>
        <p:spPr>
          <a:xfrm>
            <a:off x="7391520" y="882720"/>
            <a:ext cx="6578640" cy="79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lnSpc>
                <a:spcPct val="100000"/>
              </a:lnSpc>
              <a:buClr>
                <a:srgbClr val="eaeaea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20202"/>
                </a:solidFill>
                <a:latin typeface="Papyrus"/>
                <a:ea typeface="Papyrus"/>
              </a:rPr>
              <a:t>Tone</a:t>
            </a:r>
            <a:endParaRPr b="0" lang="en-US" sz="4000" spc="-1" strike="noStrike">
              <a:solidFill>
                <a:srgbClr val="49433e"/>
              </a:solidFill>
              <a:latin typeface="Bradley Hand ITC TT-Bold"/>
            </a:endParaRPr>
          </a:p>
          <a:p>
            <a:pPr marL="39600">
              <a:lnSpc>
                <a:spcPct val="100000"/>
              </a:lnSpc>
              <a:buClr>
                <a:srgbClr val="eaeaea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20202"/>
                </a:solidFill>
                <a:latin typeface="Papyrus"/>
                <a:ea typeface="Papyrus"/>
              </a:rPr>
              <a:t>Metaphor</a:t>
            </a:r>
            <a:endParaRPr b="0" lang="en-US" sz="4000" spc="-1" strike="noStrike">
              <a:solidFill>
                <a:srgbClr val="49433e"/>
              </a:solidFill>
              <a:latin typeface="Bradley Hand ITC TT-Bold"/>
            </a:endParaRPr>
          </a:p>
          <a:p>
            <a:pPr marL="39600">
              <a:lnSpc>
                <a:spcPct val="100000"/>
              </a:lnSpc>
              <a:buClr>
                <a:srgbClr val="eaeaea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20202"/>
                </a:solidFill>
                <a:latin typeface="Papyrus"/>
                <a:ea typeface="Papyrus"/>
              </a:rPr>
              <a:t>Understatement</a:t>
            </a:r>
            <a:endParaRPr b="0" lang="en-US" sz="4000" spc="-1" strike="noStrike">
              <a:solidFill>
                <a:srgbClr val="49433e"/>
              </a:solidFill>
              <a:latin typeface="Bradley Hand ITC TT-Bold"/>
            </a:endParaRPr>
          </a:p>
          <a:p>
            <a:pPr marL="39600">
              <a:lnSpc>
                <a:spcPct val="100000"/>
              </a:lnSpc>
              <a:buClr>
                <a:srgbClr val="eaeaea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20202"/>
                </a:solidFill>
                <a:latin typeface="Papyrus"/>
                <a:ea typeface="Papyrus"/>
              </a:rPr>
              <a:t>Hyperbole</a:t>
            </a:r>
            <a:endParaRPr b="0" lang="en-US" sz="4000" spc="-1" strike="noStrike">
              <a:solidFill>
                <a:srgbClr val="49433e"/>
              </a:solidFill>
              <a:latin typeface="Bradley Hand ITC TT-Bold"/>
            </a:endParaRPr>
          </a:p>
          <a:p>
            <a:pPr marL="39600">
              <a:lnSpc>
                <a:spcPct val="100000"/>
              </a:lnSpc>
              <a:buClr>
                <a:srgbClr val="eaeaea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20202"/>
                </a:solidFill>
                <a:latin typeface="Papyrus"/>
                <a:ea typeface="Papyrus"/>
              </a:rPr>
              <a:t>Mood/ambiance/atmosphere</a:t>
            </a:r>
            <a:endParaRPr b="0" lang="en-US" sz="4000" spc="-1" strike="noStrike">
              <a:solidFill>
                <a:srgbClr val="49433e"/>
              </a:solidFill>
              <a:latin typeface="Bradley Hand ITC TT-Bold"/>
            </a:endParaRPr>
          </a:p>
          <a:p>
            <a:pPr marL="39600">
              <a:lnSpc>
                <a:spcPct val="100000"/>
              </a:lnSpc>
              <a:buClr>
                <a:srgbClr val="eaeaea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20202"/>
                </a:solidFill>
                <a:latin typeface="Papyrus"/>
                <a:ea typeface="Papyrus"/>
              </a:rPr>
              <a:t>Genre</a:t>
            </a:r>
            <a:endParaRPr b="0" lang="en-US" sz="4000" spc="-1" strike="noStrike">
              <a:solidFill>
                <a:srgbClr val="49433e"/>
              </a:solidFill>
              <a:latin typeface="Bradley Hand ITC TT-Bold"/>
            </a:endParaRPr>
          </a:p>
          <a:p>
            <a:pPr marL="39600">
              <a:lnSpc>
                <a:spcPct val="100000"/>
              </a:lnSpc>
              <a:buClr>
                <a:srgbClr val="eaeaea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20202"/>
                </a:solidFill>
                <a:latin typeface="Papyrus"/>
                <a:ea typeface="Papyrus"/>
              </a:rPr>
              <a:t>Repetition</a:t>
            </a:r>
            <a:endParaRPr b="0" lang="en-US" sz="4000" spc="-1" strike="noStrike">
              <a:solidFill>
                <a:srgbClr val="49433e"/>
              </a:solidFill>
              <a:latin typeface="Bradley Hand ITC TT-Bold"/>
            </a:endParaRPr>
          </a:p>
          <a:p>
            <a:pPr marL="39600">
              <a:lnSpc>
                <a:spcPct val="100000"/>
              </a:lnSpc>
              <a:buClr>
                <a:srgbClr val="eaeaea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20202"/>
                </a:solidFill>
                <a:latin typeface="Papyrus"/>
                <a:ea typeface="Papyrus"/>
              </a:rPr>
              <a:t>Onomatopoeia</a:t>
            </a:r>
            <a:endParaRPr b="0" lang="en-US" sz="4000" spc="-1" strike="noStrike">
              <a:solidFill>
                <a:srgbClr val="49433e"/>
              </a:solidFill>
              <a:latin typeface="Bradley Hand ITC TT-Bold"/>
            </a:endParaRPr>
          </a:p>
          <a:p>
            <a:pPr marL="39600">
              <a:lnSpc>
                <a:spcPct val="100000"/>
              </a:lnSpc>
              <a:buClr>
                <a:srgbClr val="eaeaea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20202"/>
                </a:solidFill>
                <a:latin typeface="Papyrus"/>
                <a:ea typeface="Papyrus"/>
              </a:rPr>
              <a:t>Diction</a:t>
            </a:r>
            <a:endParaRPr b="0" lang="en-US" sz="40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